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F0E-CF9B-457A-BD32-709B3F67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A3F-2157-4018-8093-CC92C9A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F1C-FC2B-49C8-8465-1604AC9B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EF5-262D-49CD-8A09-72837B0F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CBD-7A85-4D5C-ACEB-085E9340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059-EDB1-4F6B-A85B-2AB72991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AC5-22A6-4C4A-936E-D5AC557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F58-2711-4788-A00B-23D655AC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FF5-EAB5-473B-B731-A5F4809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36F-6A9B-42CB-A1F7-20DB4B1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377-71CA-4F06-BA70-BC613C8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BBF-9CF3-4AC0-BA6C-E506FFA0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EAF-4264-4D2E-B892-B39F6092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e the thesis, but resta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re is nothing left to argue; you have proven it to be tr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one of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n the conclusion that you fully explain why this paper was worth reading and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1:24:56Z</dcterms:created>
  <dc:creator>Administrator</dc:creator>
  <dc:description/>
  <dc:language>en-US</dc:language>
  <cp:lastModifiedBy>Administrator</cp:lastModifiedBy>
  <dcterms:modified xsi:type="dcterms:W3CDTF">2010-10-21T12:54:31Z</dcterms:modified>
  <cp:revision>3</cp:revision>
  <dc:subject/>
  <dc:title>Slide 1</dc:title>
</cp:coreProperties>
</file>